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CAE-B7E3-4AA1-BD54-996B459F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6E7-E9B9-4A53-A633-A3FF287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F56-F18B-4A2F-8CF9-81C3EBE8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9B0-FAB1-445B-A867-A47B855B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7EC-11E6-47FA-A326-CDAE9CD1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C43-0C44-4B27-993C-2DE4C668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FE5-180D-470E-BF64-EAC0A968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EDD-77F4-438A-A830-B40E0332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3C6-E3D4-463B-931D-30BAFBCB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877-0B28-48C3-9386-8E68E7A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301-D5DD-4BA1-8C9E-84499E5C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438-5D0E-45B5-BB43-C26321C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5174-1023-4AB4-B7DB-9AC995E48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4254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86000" y="3962520"/>
            <a:ext cx="4495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9608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0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971800" y="4038480"/>
            <a:ext cx="2514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4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696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9608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81680" y="44197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1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7696440" cy="1067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34320" y="33526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620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04812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78168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6781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10080" y="2971800"/>
            <a:ext cx="1752840" cy="914400"/>
          </a:xfrm>
          <a:prstGeom prst="rect">
            <a:avLst/>
          </a:prstGeom>
          <a:solidFill>
            <a:srgbClr val="fff7ca"/>
          </a:solidFill>
          <a:ln w="9360">
            <a:solidFill>
              <a:srgbClr val="ffe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71800" y="2819520"/>
            <a:ext cx="198108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371600" y="83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91320" y="838080"/>
            <a:ext cx="2361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7162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1629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510552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54Z</dcterms:modified>
  <cp:revision>41</cp:revision>
  <dc:subject/>
  <dc:title>PowerPoint Presentation</dc:title>
</cp:coreProperties>
</file>